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346B-0E00-4B8B-82F7-C398F39EF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0528-008C-4F44-89D4-9AC0FAB5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FC38-2C96-46B4-84C7-01764C5AA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0711-6FAE-4D9C-8C29-8CF66279A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6BEE-1E5D-410D-BBAD-9FB3D7C7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B0FD-BE59-44D2-AEAF-48CF3609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9E73-E7AA-4BC7-9ADC-9CB2A949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781D-C7AD-4ACB-BC45-0D4EDCBB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AE9F-0CBD-4786-B250-9EF387FD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D79B-F6A2-4824-AC70-F4F89C11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10E3-A75C-4608-A6CD-D83264CF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A1D5-7EFD-42EB-A8F6-5BBF8D65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E28C-B088-4A90-B75E-9066262A7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216.226.178.196/cdm4/results.php?CISORESTMP=results.php&amp;CISOVIEWTMP=item_viewer.php&amp;CISOMODE=grid&amp;CISOGRID=thumbnail,A,1;title,A,1;subjec,A,0;descri,200,0;none,A,0;20;cdnum,none,none,none,none&amp;CISOBIB=cdnum,A,1,N;file,A,0,N;qfile,200,0,N;none,A,0,N;none,A,0,N;20;cdnum,none,none,none,none&amp;CISOTHUMB=20%20(4x5);cdnum,none,none,none,none&amp;CISOTITLE=20;cdnum,none,none,none,none&amp;CISOHIERA=20;file,cdnum,none,none,none&amp;CISOSUPPRESS=1&amp;CISOTYPE=link&amp;CISOOP1=all&amp;CISOFIELD1=cdnum&amp;CISOBOX1=&amp;CISOOP2=all&amp;CISOFIELD2=file&amp;CISOBOX2=&amp;CISOOP3=all&amp;CISOFIELD3=fila&amp;CISOBOX3=&amp;CISOOP4=all&amp;CISOFIELD4=CISOSEARCHALL&amp;CISOBOX4=selma+montgomery+march+civil&amp;c=all&amp;CISOROOT=%2Fphoto%22=%22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egroartist.com/civil%20rights%20imagery/images/Black%20civil%20rights%20demonstrator%20attacked%20by%20a%20dog%20in%20Birmingham,%20Alabama%201963_jpg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We Must Die”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Claude McK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19720" y="3886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8453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ugh far outnumbered let us show us brave,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086520" cy="4714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for their thousand blows deal one death-blow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4267080" cy="300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029200" y="2975040"/>
            <a:ext cx="3581280" cy="3349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hough before us lies the open grave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men we’ll face the murderous, cowardly p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019920" cy="4724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ed to the wall, dying, but fighting bac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3362400" cy="2124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029200" y="3657600"/>
            <a:ext cx="3362400" cy="2124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ed b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mberly Gu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a Bill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rrick Kimb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gela J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57200" y="304920"/>
          <a:ext cx="8153280" cy="5863320"/>
        </p:xfrm>
        <a:graphic>
          <a:graphicData uri="http://schemas.openxmlformats.org/drawingml/2006/table">
            <a:tbl>
              <a:tblPr/>
              <a:tblGrid>
                <a:gridCol w="216000"/>
                <a:gridCol w="7937280"/>
              </a:tblGrid>
              <a:tr h="586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we must die, let it not be like hog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nted and penned in an inglorious spot,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le round us bark the mad and hungry dogs,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ing their mock at our accursèd lot.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we must die, O let us nobly die,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 that our precious blood may not be shed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vain; then even the monsters we defy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ll be constrained to honor us though dead!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kinsmen! we must meet the common foe!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ugh far outnumbered let us show us brave,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for their thousand blows deal one death-blow!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though before us lies the open grave?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ke men we'll face the murderous, cowardly pack,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sed to the wall, dying, but fighting back!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y Sunday, March 7, 196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Selma To Montgomer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must die, let it not be like hog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nted and penned in an inglorious 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round us bark the mad and hungry dog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their mock at our accursed l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600200"/>
            <a:ext cx="8610480" cy="4952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Photo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must die, O let us nobly die,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402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that our precious blood may not be sh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vain then even the monsters we def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947960"/>
            <a:ext cx="8153280" cy="4681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ll be constrained to honor us though dead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, kinsmen! We must meet the common f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8839080" cy="5334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7T05:20:21Z</dcterms:created>
  <dc:creator>Angela L Jones</dc:creator>
  <dc:description/>
  <dc:language>en-US</dc:language>
  <cp:lastModifiedBy>Angela L Jones</cp:lastModifiedBy>
  <dcterms:modified xsi:type="dcterms:W3CDTF">2010-07-17T06:32:53Z</dcterms:modified>
  <cp:revision>3</cp:revision>
  <dc:subject/>
  <dc:title>“If We Must Die”</dc:title>
</cp:coreProperties>
</file>